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D72-D6CB-4283-83ED-C0FA70D3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FA8-AE3E-48BD-86C5-BD3F9259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F8E-2633-4C86-A4DE-FFB2B511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2656-6E8C-4205-B340-5B99CDBC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13FD-8FA8-4068-837E-83E56E5D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94E-C536-4043-AD66-ED3ECA44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14E-BEB4-4043-854C-43F90E646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5129-56E4-4B27-A9B2-BD57F63B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CC2-2411-4703-85A6-24E96D8A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95D0-DD73-4E78-8E31-EFE15345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2F6-37A4-47A4-BE00-9EF0AD08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CB5-CAE6-4EE1-92A9-8D9024962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38FE-036C-46CA-8B75-B188F933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D14-64D3-48C7-B6F5-366B0540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07D6-59AA-4454-885E-47758CCF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A5CB-0224-4FA2-AAAE-B4DC0751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F1B6-3F1D-4058-8B11-2044F1DA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C830-2F60-4B70-A7B1-66DCF2F0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DA31-24BF-43DE-987E-49C761C6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7118-C961-4BD6-975E-4D577585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4E9-AD2A-4614-A029-16C6AA73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C9F-75BB-4E4A-BA00-B6827536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F742-CA2A-4498-A2BA-15A234E2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81C-8152-41CE-BDFB-968021B0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047-AA81-45AB-9677-5F071A6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11D-AE17-4C43-A896-67714E6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89D-D395-4456-8A26-9223F31E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F0C-9FFD-4BC1-B794-A0424F1F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EF8-E225-4C19-82BD-850C3FB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B71-8FAF-4FF3-9645-AA81AC2B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2AF-7987-4996-AA2F-FDF9FDE5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F7-4F40-4380-B8F2-67CB92D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D72-6163-4C1C-BB8D-7F51A87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B95-9EFE-43DC-AE62-C5160C1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951-5232-472C-979E-66EA7DE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103-E07A-43F1-A8A5-65E0203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1DC6-6039-4340-8095-D5F56DC9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/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/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joint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body parts/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amputations (mecha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i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joint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of body parts/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amputations (mecha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&amp;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&amp; 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&amp;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&amp; 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6-09-08T03:15:58Z</dcterms:modified>
  <cp:revision>385</cp:revision>
  <dc:subject/>
  <dc:title>Biology Disciplines</dc:title>
</cp:coreProperties>
</file>